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7459-A0F9-42F7-9BAF-89CA1934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5E8-FB40-4C44-93DE-1AF148C4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F0A-A2F6-41FA-AD04-368A7674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518-CE3A-4AE8-943E-9CF150FB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D39-9306-4830-A5E6-BAC43434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C28-EACD-4B37-AB09-AE66D987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563-6E7A-4545-B2C9-DC38F9C9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D4B-52A2-4C58-B4E4-E398EFC7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453B-BECB-486A-9EF8-238F8A5A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23C9-C52E-4BDC-B7D4-EB447690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1C58-A9DD-4001-971F-DF858932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D8A9-2260-46AC-BCC4-27343F80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ED09-89A3-4E3A-B2F4-C7B151038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411280" cy="1808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03280" y="3500280"/>
            <a:ext cx="647712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63504" dir="2216091" blurRad="0" rotWithShape="0">
                    <a:srgbClr val="ffffff"/>
                  </a:outerShdw>
                </a:effectLst>
                <a:latin typeface="Arial Narrow"/>
              </a:rPr>
              <a:t>ТРОННАТА ЗАЛА </a:t>
            </a:r>
            <a:endParaRPr b="1" lang="en-US" sz="72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63504" dir="2216091" blurRad="0" rotWithShape="0">
                  <a:srgbClr val="ffffff"/>
                </a:outerShdw>
              </a:effectLst>
              <a:latin typeface="Arial Narrow"/>
              <a:ea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63504" dir="2216091" blurRad="0" rotWithShape="0">
                    <a:srgbClr val="ffffff"/>
                  </a:outerShdw>
                </a:effectLst>
                <a:latin typeface="Arial Narrow"/>
              </a:rPr>
              <a:t>НА УНИВЕРСА</a:t>
            </a:r>
            <a:endParaRPr b="1" lang="en-US" sz="72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63504" dir="2216091" blurRad="0" rotWithShape="0">
                  <a:srgbClr val="ffff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187280" y="2997360"/>
            <a:ext cx="6505920" cy="3047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99cc">
                      <a:alpha val="80000"/>
                    </a:srgbClr>
                  </a:outerShdw>
                </a:effectLst>
                <a:latin typeface="Arial Unicode MS"/>
              </a:rPr>
              <a:t>Правда и правосъдие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99cc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99cc">
                      <a:alpha val="80000"/>
                    </a:srgbClr>
                  </a:outerShdw>
                </a:effectLst>
                <a:latin typeface="Arial Unicode MS"/>
              </a:rPr>
              <a:t>са основа на престола Ти;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99cc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99cc">
                      <a:alpha val="80000"/>
                    </a:srgbClr>
                  </a:outerShdw>
                </a:effectLst>
                <a:latin typeface="Arial Unicode MS"/>
              </a:rPr>
              <a:t>Милост и истин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99cc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99cc">
                      <a:alpha val="80000"/>
                    </a:srgbClr>
                  </a:outerShdw>
                </a:effectLst>
                <a:latin typeface="Arial Unicode MS"/>
              </a:rPr>
              <a:t>ходят пред Твоето лице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99cc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58920" y="1484280"/>
            <a:ext cx="22669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0099cc"/>
                  </a:outerShdw>
                </a:effectLst>
                <a:latin typeface="Arial Unicode MS"/>
              </a:rPr>
              <a:t>Псалом 89:14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0099cc"/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268360" y="2205000"/>
            <a:ext cx="504036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РИОН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</p:pic>
      <p:sp>
        <p:nvSpPr>
          <p:cNvPr id="71" name=""/>
          <p:cNvSpPr txBox="1"/>
          <p:nvPr/>
        </p:nvSpPr>
        <p:spPr>
          <a:xfrm>
            <a:off x="1763640" y="958680"/>
            <a:ext cx="5772240" cy="333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6600">
                      <a:alpha val="80000"/>
                    </a:srgbClr>
                  </a:outerShdw>
                </a:effectLst>
                <a:latin typeface="Arial Unicode MS"/>
              </a:rPr>
              <a:t>И около престола имаше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660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6600">
                      <a:alpha val="80000"/>
                    </a:srgbClr>
                  </a:outerShdw>
                </a:effectLst>
                <a:latin typeface="Arial Unicode MS"/>
              </a:rPr>
              <a:t>двадесет и четири престола,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660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6600">
                      <a:alpha val="80000"/>
                    </a:srgbClr>
                  </a:outerShdw>
                </a:effectLst>
                <a:latin typeface="Arial Unicode MS"/>
              </a:rPr>
              <a:t> </a:t>
            </a: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6600">
                      <a:alpha val="80000"/>
                    </a:srgbClr>
                  </a:outerShdw>
                </a:effectLst>
                <a:latin typeface="Arial Unicode MS"/>
              </a:rPr>
              <a:t>и видях, че на престолите седяха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660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6600">
                      <a:alpha val="80000"/>
                    </a:srgbClr>
                  </a:outerShdw>
                </a:effectLst>
                <a:latin typeface="Arial Unicode MS"/>
              </a:rPr>
              <a:t>двадесет и четири старци,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660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6600">
                      <a:alpha val="80000"/>
                    </a:srgbClr>
                  </a:outerShdw>
                </a:effectLst>
                <a:latin typeface="Arial Unicode MS"/>
              </a:rPr>
              <a:t>облечени в бели дрехи,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660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6600">
                      <a:alpha val="80000"/>
                    </a:srgbClr>
                  </a:outerShdw>
                </a:effectLst>
                <a:latin typeface="Arial Unicode MS"/>
              </a:rPr>
              <a:t>и на главите им златни корони.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660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348000" y="189000"/>
            <a:ext cx="221940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6600">
                      <a:alpha val="80000"/>
                    </a:srgbClr>
                  </a:outerShdw>
                </a:effectLst>
                <a:latin typeface="Arial Unicode MS"/>
              </a:rPr>
              <a:t>Откровение 4:4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660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</p:pic>
      <p:sp>
        <p:nvSpPr>
          <p:cNvPr id="74" name=""/>
          <p:cNvSpPr txBox="1"/>
          <p:nvPr/>
        </p:nvSpPr>
        <p:spPr>
          <a:xfrm>
            <a:off x="684360" y="3789360"/>
            <a:ext cx="7934040" cy="23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6600">
                      <a:alpha val="80000"/>
                    </a:srgbClr>
                  </a:outerShdw>
                </a:effectLst>
                <a:latin typeface="Arial Unicode MS"/>
              </a:rPr>
              <a:t>И от престола излизаха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660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6600">
                      <a:alpha val="80000"/>
                    </a:srgbClr>
                  </a:outerShdw>
                </a:effectLst>
                <a:latin typeface="Arial Unicode MS"/>
              </a:rPr>
              <a:t>светкавици и гласове и гърмежи.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660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6600">
                      <a:alpha val="80000"/>
                    </a:srgbClr>
                  </a:outerShdw>
                </a:effectLst>
                <a:latin typeface="Arial Unicode MS"/>
              </a:rPr>
              <a:t>И пред престола горяха седем огнени светила,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660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6600">
                      <a:alpha val="80000"/>
                    </a:srgbClr>
                  </a:outerShdw>
                </a:effectLst>
                <a:latin typeface="Arial Unicode MS"/>
              </a:rPr>
              <a:t>които са седемте Божии духове.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660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404640"/>
            <a:ext cx="22194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6600">
                      <a:alpha val="80000"/>
                    </a:srgbClr>
                  </a:outerShdw>
                </a:effectLst>
                <a:latin typeface="Arial Unicode MS"/>
              </a:rPr>
              <a:t>Откровение 4:5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660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0000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549360"/>
            <a:ext cx="8496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Матея 27:50 –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А Исус, като извика п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със силен глас, издъх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И, ето, завесата на храма се раздра на д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от горе до долу, земята се разтрес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скалите се разпукаха,гробовете се разтворих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00"/>
                </a:solidFill>
                <a:uFillTx/>
                <a:latin typeface="Arial"/>
              </a:rPr>
              <a:t>много тела на починалите светии бяха възкресени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(които, като излязоха от гробов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след Неговото възкрес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влязоха в светия гра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и се явиха на мнозин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867280" y="4437000"/>
            <a:ext cx="292572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</p:pic>
      <p:sp>
        <p:nvSpPr>
          <p:cNvPr id="80" name=""/>
          <p:cNvSpPr/>
          <p:nvPr/>
        </p:nvSpPr>
        <p:spPr>
          <a:xfrm>
            <a:off x="1979640" y="620640"/>
            <a:ext cx="53290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 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А тези, които излязоха от гроб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при възкресението на Христо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Бяха възкресени за вечен жив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Те се възнесоха заедно с Н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като трофеи на Неговата поб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Над смъртта и гроба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ЕГВ, Животът на Исус, стр.4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755640" y="2205000"/>
            <a:ext cx="8153280" cy="38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Откровение 4:6 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И пред престола имаше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 </a:t>
            </a: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като стъклено море, подобно на кристал, 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а всред престола и около него 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четири живи същества, 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пълни с очи и отпред и отзад.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5280" y="692280"/>
            <a:ext cx="849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ff0000"/>
                </a:solidFill>
                <a:latin typeface="Arial"/>
              </a:rPr>
              <a:t>Откровение 4: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ff0000"/>
                </a:solidFill>
                <a:latin typeface="Arial"/>
              </a:rPr>
              <a:t>Първото живо същество приличаше на лъ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ff0000"/>
                </a:solidFill>
                <a:latin typeface="Arial"/>
              </a:rPr>
              <a:t>второто приличаше на тел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ff0000"/>
                </a:solidFill>
                <a:latin typeface="Arial"/>
              </a:rPr>
              <a:t>третото имаше като човешко лиц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ff0000"/>
                </a:solidFill>
                <a:latin typeface="Arial"/>
              </a:rPr>
              <a:t>и четвъртото живо същ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ff0000"/>
                </a:solidFill>
                <a:latin typeface="Arial"/>
              </a:rPr>
              <a:t>приличаше на летящ ор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ff0000"/>
                </a:solidFill>
                <a:latin typeface="Arial"/>
              </a:rPr>
              <a:t>Откровение 4: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ff0000"/>
                </a:solidFill>
                <a:latin typeface="Arial"/>
              </a:rPr>
              <a:t>И четирите живи съще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bg-BG" sz="2400" spc="-1" strike="noStrike">
                <a:solidFill>
                  <a:srgbClr val="ff0000"/>
                </a:solidFill>
                <a:latin typeface="Arial"/>
              </a:rPr>
              <a:t>имащи по шест кри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ff0000"/>
                </a:solidFill>
                <a:latin typeface="Arial"/>
              </a:rPr>
              <a:t>бяха пълни с очи изоколо и извътр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ff0000"/>
                </a:solidFill>
                <a:latin typeface="Arial"/>
              </a:rPr>
              <a:t>и те не престават денем и нощем да казва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ff0000"/>
                </a:solidFill>
                <a:latin typeface="Arial"/>
              </a:rPr>
              <a:t>Свет, свет, свет е Господ Бог Всемогъщ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ff0000"/>
                </a:solidFill>
                <a:latin typeface="Arial"/>
              </a:rPr>
              <a:t>Който бе и Който е, и Който ще бъ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</p:pic>
      <p:sp>
        <p:nvSpPr>
          <p:cNvPr id="87" name=""/>
          <p:cNvSpPr/>
          <p:nvPr/>
        </p:nvSpPr>
        <p:spPr>
          <a:xfrm>
            <a:off x="611280" y="430200"/>
            <a:ext cx="8064360" cy="5946120"/>
          </a:xfrm>
          <a:prstGeom prst="rect">
            <a:avLst/>
          </a:prstGeom>
          <a:gradFill rotWithShape="0">
            <a:gsLst>
              <a:gs pos="0">
                <a:srgbClr val="ffff00">
                  <a:alpha val="46274"/>
                </a:srgbClr>
              </a:gs>
              <a:gs pos="100000">
                <a:srgbClr val="757500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Откровение 4: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И когато живите същества принасят сла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очит и благодарение на Тоз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Който седи на престола и живее до вечни веков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Откровение 4:10 двадесетте и четири старц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адат пред седящия на престола, и се клан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а Онзи, Който живее до вечни веков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и полагат короните си пред престола, казвай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Откровение 4: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Достоен си, Господи наш и Боже наш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да приемеш, слава, почит и си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ащото Ти си създал всичк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и поради Твоята во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всичко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е съществувало и е било създад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619280" y="3068640"/>
            <a:ext cx="5819760" cy="27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Псалми 90:2 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Преди да се родят планините,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И да си дал съществувание 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на земята и вселената,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От века и до века Ти си Бог.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900000" y="1773360"/>
            <a:ext cx="7562880" cy="4419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Римляни 4:17 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(както е писано: 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"Направих те отец на много народи"), 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пред Бога, Когото повярва, 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Който съживява мъртвите, и повиква в 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действително съществуване онова, 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което не съществува.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3240" y="3468600"/>
            <a:ext cx="5050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Артур Шопенхау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олкото по-низко стои чов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в своето умствено развит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Толкова по-малко загадъч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му се струва битието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971640" y="1700280"/>
            <a:ext cx="7115040" cy="28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Да се не смущава сърцето ви;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вие вярвате в Бога, вярвайте и Мене.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В дома на Отца Ми има много обиталища;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ако не беше така, Аз щях да ви кажа,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защото отивам да ви приготвя място.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9640" y="4724280"/>
            <a:ext cx="8067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И като отида и ви приготвя място, пак ще дойда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и ще ви взема при Себе Си,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33ff">
                      <a:alpha val="80000"/>
                    </a:srgbClr>
                  </a:outerShdw>
                </a:effectLst>
                <a:latin typeface="Arial Unicode MS"/>
              </a:rPr>
              <a:t>тъй щото гдето съм Аз да бъдете и вие.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33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84360" y="1413000"/>
            <a:ext cx="1657080" cy="95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Unicode MS"/>
              </a:rPr>
              <a:t>Ф.Волтер: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Unicode MS"/>
              <a:ea typeface="Arial Unicode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11280" y="2781360"/>
            <a:ext cx="7076880" cy="2705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6600">
                      <a:alpha val="80000"/>
                    </a:srgbClr>
                  </a:outerShdw>
                </a:effectLst>
                <a:latin typeface="Arial Unicode MS"/>
              </a:rPr>
              <a:t>Светът ме затруднява 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660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6600">
                      <a:alpha val="80000"/>
                    </a:srgbClr>
                  </a:outerShdw>
                </a:effectLst>
                <a:latin typeface="Arial Unicode MS"/>
              </a:rPr>
              <a:t>и аз не мога да мисля, 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660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6600">
                      <a:alpha val="80000"/>
                    </a:srgbClr>
                  </a:outerShdw>
                </a:effectLst>
                <a:latin typeface="Arial Unicode MS"/>
              </a:rPr>
              <a:t>че този часовник съществува 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660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6600">
                      <a:alpha val="80000"/>
                    </a:srgbClr>
                  </a:outerShdw>
                </a:effectLst>
                <a:latin typeface="Arial Unicode MS"/>
              </a:rPr>
              <a:t>и няма часовникар...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660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764720" cy="8109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95280" y="1413000"/>
            <a:ext cx="165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ff"/>
                </a:solidFill>
                <a:latin typeface="Arial Unicode MS"/>
              </a:rPr>
              <a:t>Ф.Волтер: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ff"/>
              </a:solidFill>
              <a:latin typeface="Arial Unicode MS"/>
              <a:ea typeface="Arial Unicode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2708280"/>
            <a:ext cx="6048360" cy="2438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ff">
                      <a:alpha val="80000"/>
                    </a:srgbClr>
                  </a:outerShdw>
                </a:effectLst>
                <a:latin typeface="Arial Unicode MS"/>
              </a:rPr>
              <a:t>... Атеистите никога не са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c00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ff">
                      <a:alpha val="80000"/>
                    </a:srgbClr>
                  </a:outerShdw>
                </a:effectLst>
                <a:latin typeface="Arial Unicode MS"/>
              </a:rPr>
              <a:t>отговорили на тази мъчнотия,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c00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ff">
                      <a:alpha val="80000"/>
                    </a:srgbClr>
                  </a:outerShdw>
                </a:effectLst>
                <a:latin typeface="Arial Unicode MS"/>
              </a:rPr>
              <a:t>че един часовник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c00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ff">
                      <a:alpha val="80000"/>
                    </a:srgbClr>
                  </a:outerShdw>
                </a:effectLst>
                <a:latin typeface="Arial Unicode MS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ff">
                      <a:alpha val="80000"/>
                    </a:srgbClr>
                  </a:outerShdw>
                </a:effectLst>
                <a:latin typeface="Arial Unicode MS"/>
              </a:rPr>
              <a:t>доказва часовникаря."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c00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11280" y="2349360"/>
            <a:ext cx="7305480" cy="4267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cc00ff">
                      <a:alpha val="80000"/>
                    </a:srgbClr>
                  </a:outerShdw>
                </a:effectLst>
                <a:latin typeface="Arial Unicode MS"/>
              </a:rPr>
              <a:t>След това видях,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cc00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cc00ff">
                      <a:alpha val="80000"/>
                    </a:srgbClr>
                  </a:outerShdw>
                </a:effectLst>
                <a:latin typeface="Arial Unicode MS"/>
              </a:rPr>
              <a:t>и ето врата отворени на небето;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cc00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cc00ff">
                      <a:alpha val="80000"/>
                    </a:srgbClr>
                  </a:outerShdw>
                </a:effectLst>
                <a:latin typeface="Arial Unicode MS"/>
              </a:rPr>
              <a:t>и предишният глас, който бях чул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cc00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cc00ff">
                      <a:alpha val="80000"/>
                    </a:srgbClr>
                  </a:outerShdw>
                </a:effectLst>
                <a:latin typeface="Arial Unicode MS"/>
              </a:rPr>
              <a:t>да говори с мене като тръба,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cc00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cc00ff">
                      <a:alpha val="80000"/>
                    </a:srgbClr>
                  </a:outerShdw>
                </a:effectLst>
                <a:latin typeface="Arial Unicode MS"/>
              </a:rPr>
              <a:t>казваше: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cc00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cc00ff">
                      <a:alpha val="80000"/>
                    </a:srgbClr>
                  </a:outerShdw>
                </a:effectLst>
                <a:latin typeface="Arial Unicode MS"/>
              </a:rPr>
              <a:t>Възлез тук, и ще ти покажа това,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cc00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cc00ff">
                      <a:alpha val="80000"/>
                    </a:srgbClr>
                  </a:outerShdw>
                </a:effectLst>
                <a:latin typeface="Arial Unicode MS"/>
              </a:rPr>
              <a:t>което трябва да стане подире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cc00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4360" y="260280"/>
            <a:ext cx="25621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 Unicode MS"/>
              </a:rPr>
              <a:t>Откровение 4:1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684360" y="2997360"/>
            <a:ext cx="7667640" cy="3047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00cc66">
                      <a:alpha val="80000"/>
                    </a:srgbClr>
                  </a:outerShdw>
                </a:effectLst>
                <a:latin typeface="Arial Unicode MS"/>
              </a:rPr>
              <a:t>Начаса се намерих в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40186" dir="1096358" blurRad="0" rotWithShape="0">
                  <a:srgbClr val="00cc66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00cc66">
                      <a:alpha val="80000"/>
                    </a:srgbClr>
                  </a:outerShdw>
                </a:effectLst>
                <a:latin typeface="Arial Unicode MS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00cc66">
                      <a:alpha val="80000"/>
                    </a:srgbClr>
                  </a:outerShdw>
                </a:effectLst>
                <a:latin typeface="Arial Unicode MS"/>
              </a:rPr>
              <a:t>изстъпление чрез Духа, и, ето,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40186" dir="1096358" blurRad="0" rotWithShape="0">
                  <a:srgbClr val="00cc66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00cc66">
                      <a:alpha val="80000"/>
                    </a:srgbClr>
                  </a:outerShdw>
                </a:effectLst>
                <a:latin typeface="Arial Unicode MS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00cc66">
                      <a:alpha val="80000"/>
                    </a:srgbClr>
                  </a:outerShdw>
                </a:effectLst>
                <a:latin typeface="Arial Unicode MS"/>
              </a:rPr>
              <a:t>престол беше поставен на небето,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40186" dir="1096358" blurRad="0" rotWithShape="0">
                  <a:srgbClr val="00cc66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00cc66">
                      <a:alpha val="80000"/>
                    </a:srgbClr>
                  </a:outerShdw>
                </a:effectLst>
                <a:latin typeface="Arial Unicode MS"/>
              </a:rPr>
              <a:t>и на престола седеше Един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40186" dir="1096358" blurRad="0" rotWithShape="0">
                  <a:srgbClr val="00cc66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9640" y="1773360"/>
            <a:ext cx="25624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 Unicode MS"/>
              </a:rPr>
              <a:t>Откровение 4:2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258920" y="1844640"/>
            <a:ext cx="6429240" cy="4267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0099ff">
                      <a:alpha val="80000"/>
                    </a:srgbClr>
                  </a:outerShdw>
                </a:effectLst>
                <a:latin typeface="Arial Unicode MS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0099ff">
                      <a:alpha val="80000"/>
                    </a:srgbClr>
                  </a:outerShdw>
                </a:effectLst>
                <a:latin typeface="Arial Unicode MS"/>
              </a:rPr>
              <a:t>Защото Христос влезе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0099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0099ff">
                      <a:alpha val="80000"/>
                    </a:srgbClr>
                  </a:outerShdw>
                </a:effectLst>
                <a:latin typeface="Arial Unicode MS"/>
              </a:rPr>
              <a:t>не в ръкотворено светилище,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0099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0099ff">
                      <a:alpha val="80000"/>
                    </a:srgbClr>
                  </a:outerShdw>
                </a:effectLst>
                <a:latin typeface="Arial Unicode MS"/>
              </a:rPr>
              <a:t>образ на истинското,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0099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0099ff">
                      <a:alpha val="80000"/>
                    </a:srgbClr>
                  </a:outerShdw>
                </a:effectLst>
                <a:latin typeface="Arial Unicode MS"/>
              </a:rPr>
              <a:t>но в самите небеса,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0099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0099ff">
                      <a:alpha val="80000"/>
                    </a:srgbClr>
                  </a:outerShdw>
                </a:effectLst>
                <a:latin typeface="Arial Unicode MS"/>
              </a:rPr>
              <a:t>да се яви вече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0099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0099ff">
                      <a:alpha val="80000"/>
                    </a:srgbClr>
                  </a:outerShdw>
                </a:effectLst>
                <a:latin typeface="Arial Unicode MS"/>
              </a:rPr>
              <a:t>пред Божието лице за нас;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0099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58" name=""/>
          <p:cNvSpPr/>
          <p:nvPr/>
        </p:nvSpPr>
        <p:spPr>
          <a:xfrm>
            <a:off x="3900960" y="324648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вреи 9: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32000" y="765000"/>
            <a:ext cx="2095560" cy="552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0099ff">
                      <a:alpha val="80000"/>
                    </a:srgbClr>
                  </a:outerShdw>
                </a:effectLst>
                <a:latin typeface="Arial Unicode MS"/>
              </a:rPr>
              <a:t>Евреи 9:24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0099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84360" y="2997360"/>
            <a:ext cx="7667640" cy="3047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00cc66">
                      <a:alpha val="80000"/>
                    </a:srgbClr>
                  </a:outerShdw>
                </a:effectLst>
                <a:latin typeface="Arial Unicode MS"/>
              </a:rPr>
              <a:t>Начаса се намерих в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40186" dir="1096358" blurRad="0" rotWithShape="0">
                  <a:srgbClr val="00cc66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00cc66">
                      <a:alpha val="80000"/>
                    </a:srgbClr>
                  </a:outerShdw>
                </a:effectLst>
                <a:latin typeface="Arial Unicode MS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00cc66">
                      <a:alpha val="80000"/>
                    </a:srgbClr>
                  </a:outerShdw>
                </a:effectLst>
                <a:latin typeface="Arial Unicode MS"/>
              </a:rPr>
              <a:t>изстъпление чрез Духа, и, ето,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40186" dir="1096358" blurRad="0" rotWithShape="0">
                  <a:srgbClr val="00cc66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00cc66">
                      <a:alpha val="80000"/>
                    </a:srgbClr>
                  </a:outerShdw>
                </a:effectLst>
                <a:latin typeface="Arial Unicode MS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00cc66">
                      <a:alpha val="80000"/>
                    </a:srgbClr>
                  </a:outerShdw>
                </a:effectLst>
                <a:latin typeface="Arial Unicode MS"/>
              </a:rPr>
              <a:t>престол беше поставен на небето,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40186" dir="1096358" blurRad="0" rotWithShape="0">
                  <a:srgbClr val="00cc66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00cc66">
                      <a:alpha val="80000"/>
                    </a:srgbClr>
                  </a:outerShdw>
                </a:effectLst>
                <a:latin typeface="Arial Unicode MS"/>
              </a:rPr>
              <a:t>и на престола седеше Един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40186" dir="1096358" blurRad="0" rotWithShape="0">
                  <a:srgbClr val="00cc66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1773360"/>
            <a:ext cx="25624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 Unicode MS"/>
              </a:rPr>
              <a:t>Откровение 4:2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684360" y="2997360"/>
            <a:ext cx="6505560" cy="3047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cc66ff">
                      <a:alpha val="80000"/>
                    </a:srgbClr>
                  </a:outerShdw>
                </a:effectLst>
                <a:latin typeface="Arial Unicode MS"/>
              </a:rPr>
              <a:t>И седналият приличаше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cc66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cc66ff">
                      <a:alpha val="80000"/>
                    </a:srgbClr>
                  </a:outerShdw>
                </a:effectLst>
                <a:latin typeface="Arial Unicode MS"/>
              </a:rPr>
              <a:t>на камък яспис и сардис;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cc66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cc66ff">
                      <a:alpha val="80000"/>
                    </a:srgbClr>
                  </a:outerShdw>
                </a:effectLst>
                <a:latin typeface="Arial Unicode MS"/>
              </a:rPr>
              <a:t>имаше около престола и дъга,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cc66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cc66ff">
                      <a:alpha val="80000"/>
                    </a:srgbClr>
                  </a:outerShdw>
                </a:effectLst>
                <a:latin typeface="Arial Unicode MS"/>
              </a:rPr>
              <a:t>на глед като смарагд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cc66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9640" y="1773360"/>
            <a:ext cx="3024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66ff"/>
                  </a:outerShdw>
                </a:effectLst>
                <a:latin typeface="Arial Unicode MS"/>
              </a:rPr>
              <a:t>Откровение 4:3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c66ff"/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13:31:38Z</dcterms:created>
  <dc:creator>Tzanko</dc:creator>
  <dc:description/>
  <dc:language>en-US</dc:language>
  <cp:lastModifiedBy>Tzanko</cp:lastModifiedBy>
  <dcterms:modified xsi:type="dcterms:W3CDTF">2004-02-22T16:13:31Z</dcterms:modified>
  <cp:revision>17</cp:revision>
  <dc:subject/>
  <dc:title>Slide 1</dc:title>
</cp:coreProperties>
</file>